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972800" cy="73152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7160" y="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678040" y="525600"/>
            <a:ext cx="394200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39480" y="3328560"/>
            <a:ext cx="6816600" cy="3156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F018267-AADF-4C71-8D68-DFA397755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055"/>
          <p:cNvSpPr/>
          <p:nvPr/>
        </p:nvSpPr>
        <p:spPr>
          <a:xfrm>
            <a:off x="5267160" y="6661080"/>
            <a:ext cx="4029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C2501C-F3BF-41C4-B9B6-6868D5A2BD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2676600" y="525600"/>
            <a:ext cx="3943440" cy="2628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238400" y="3328560"/>
            <a:ext cx="681984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DFD-6A7C-49CE-9756-1516E1E5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871-C9AA-419D-BA5C-4F7D26F3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BE7-CAD2-4732-BCBE-437CDFFA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17064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4228200"/>
            <a:ext cx="317916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7F3-860F-4947-AEAA-F7AE4040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3A6F-DCA7-4F01-B6F3-C46DC5E2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FE3C-4765-45A8-A5B3-0A394FCD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04C-2534-49AD-8995-6457A7A4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23E-5BE4-4EAC-802E-7C230A18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293760"/>
            <a:ext cx="987408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3A3C-2EC6-4E34-BA7F-4FC4AB53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7E9-97ED-43E1-8918-49A613E2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42282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11A-7FC5-4443-BCD9-71E150A2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1706400"/>
            <a:ext cx="481824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4228200"/>
            <a:ext cx="9874080" cy="2302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61A-69AF-42E1-8D4A-AC29DC97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293760"/>
            <a:ext cx="9874080" cy="1218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1706400"/>
            <a:ext cx="9874080" cy="4827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78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050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2606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493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6780240"/>
            <a:ext cx="34732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6780240"/>
            <a:ext cx="2558880" cy="38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BF5B-97BA-448C-A72D-309E4F1DE0E3}" type="slidenum">
              <a:rPr b="0" lang="en-US" sz="1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2733840" y="442800"/>
            <a:ext cx="720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0"/>
            <a:ext cx="1085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GOVERNMENT OF IN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MINISTRY OF PORTS, SHIPPING &amp; WATER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 Black"/>
              </a:rPr>
              <a:t>DIRECTORATE GENERAL OF  LIGHTHOUSES &amp; LIGHTSHI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rcRect l="1282" t="0" r="66511" b="47697"/>
          <a:stretch/>
        </p:blipFill>
        <p:spPr>
          <a:xfrm>
            <a:off x="4114800" y="2438280"/>
            <a:ext cx="1905120" cy="2433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099240" y="571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Aids to Navigation- An Up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914400"/>
            <a:ext cx="9721800" cy="5943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New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IVEF Compliant VTS Software </a:t>
            </a: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operational in VTS – Gulf of Kutch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VTS- Gulf of Kutch software was upgraded with update features and with IVEF format and became operational with all its features in the first quarter this year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138000" y="1706400"/>
            <a:ext cx="285840" cy="4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930240" y="2090880"/>
            <a:ext cx="93474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380880" y="990720"/>
            <a:ext cx="10599840" cy="75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RTCM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 (Radio Technical Commission for Maritime Services) Standards for </a:t>
            </a:r>
            <a:r>
              <a:rPr b="1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NavIC in DGNSS application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 officially released on RTCM website on April 28, 2020</a:t>
            </a: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Indian Regional Navigation Satellite System (IRNSS) recog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The International Maritime Organization (IMO) has recognised the Indian Regional Navigation Satellite System (IRNSS) as a component of the World-Wide Radio Navigation System (WWRNS) for operation in the Indian Ocean Reg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380880" y="990720"/>
            <a:ext cx="10287000" cy="66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NavIC (IRNSS) is an independent regional navigation satellite system developed by India to provide accurate position information service to assist in the navigation of ships in Indian Ocean wat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During its 102nd session held virtually (4 to 11 November 2020), the  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Maritime Safety Committee (MSC) of IMO recognized the Indian Regional Navigation Satellite System (IRNSS) as a component of  the  World-wide  radio navigation 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533520" y="533520"/>
            <a:ext cx="1013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70c0"/>
                </a:solidFill>
                <a:latin typeface="Arial"/>
                <a:ea typeface="Arial"/>
              </a:rPr>
              <a:t>Establishment of new Lighthouse at Tajpur and Kuthenku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For easy identification of landmark and to provide seamless coverage of lighthouse along the Indian Coast two new Lighthouses at Tajpur and Kuthenkuli have been inaugurated this ye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206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9966240" cy="62593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just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libri"/>
              </a:rPr>
              <a:t>Aids to marine Navigation Act 2020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Aids to marine Navigation 2020 superseding Lighthouse Act 1927 has been drafted into Bill and submitted for approval in Parliament.</a:t>
            </a:r>
            <a:br>
              <a:rPr sz="5000"/>
            </a:b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05120" y="3048120"/>
            <a:ext cx="7010280" cy="27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THANK  YOU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pic>
        <p:nvPicPr>
          <p:cNvPr id="60" name="Picture 6" descr="C LH3"/>
          <p:cNvPicPr/>
          <p:nvPr/>
        </p:nvPicPr>
        <p:blipFill>
          <a:blip r:embed="rId1"/>
          <a:stretch/>
        </p:blipFill>
        <p:spPr>
          <a:xfrm>
            <a:off x="9785520" y="0"/>
            <a:ext cx="118728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4:43:41Z</dcterms:created>
  <dc:creator>abc</dc:creator>
  <dc:description/>
  <dc:language>en-US</dc:language>
  <cp:lastModifiedBy>ACER-PC</cp:lastModifiedBy>
  <cp:lastPrinted>2020-12-08T10:41:46Z</cp:lastPrinted>
  <dcterms:modified xsi:type="dcterms:W3CDTF">2020-12-08T10:46:04Z</dcterms:modified>
  <cp:revision>284</cp:revision>
  <dc:subject/>
  <dc:title>No Slide Title</dc:title>
</cp:coreProperties>
</file>